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0E84-ECE4-4584-9A4F-73FF4FC58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20CA-C0BF-4CB5-90F0-A5F963A834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C2C5-5850-44F0-ACD6-DA9FEB0430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169-C405-4767-9241-5803F3FC71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4E19-72D0-4AFF-8B62-658742EEBC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2B7-D55F-4214-AE79-408EA60F84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449-8B45-4B42-85DB-964A8699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EBE-6BFC-4A88-9419-EA8FABF5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0BA-62E3-40CB-99D3-CAB94AA4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F25-3D30-489C-9337-7BF54433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0A5B-42EF-4F8E-B8E1-9E07FC24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5E75-82E2-48CB-BDCE-6A02E41F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6863-9688-4381-BCA9-ED7BFB71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59FA-C06D-4D72-A6E0-78912F07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EA93-DCE3-4EBD-8FFF-E1AF7A8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6A0A-A089-44C0-9038-F6830ACD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C4C5-B0B2-4083-9B0A-D404C1B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CF6-8760-4DD7-A581-DE17A252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CE03-DFDE-49C0-9B99-1E42B07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3FD2-AE24-4AC4-9D84-031926B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BB75-E237-444C-BF26-B6A5826E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4FAC-BBA8-41D6-A864-3DA147ED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EE0BD-9CEC-4029-B90D-8513AC46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31B-47AD-4D47-9B64-8C00B19E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250-0096-4673-82C6-0B018414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456-FE01-49AE-91EF-EC7CD8BD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42C-ADF8-4074-9C53-03B15480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E33-F74C-447E-83FE-430C48C7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3CA8-0274-49D4-BBAE-E597910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3C9F-47B4-4194-9BFF-81D42850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AB34-7454-48F2-A4A3-2D7E07E8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73E2-0204-416F-823B-643F0DBB8E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RTICLES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sheet of pap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Name two weaknesses of the Articles of Confedera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684520" y="3200400"/>
            <a:ext cx="3774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Name the rebellion that occurred during 1786-1787 over farm foreclosures in Massachusett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4784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Under the Articles of Confederation, how many votes did each state hav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2666880" y="3581280"/>
            <a:ext cx="3675240" cy="27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Name two powers of Congress under the Articles of Confedera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5800" y="3200040"/>
            <a:ext cx="7772400" cy="2895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2511360" y="3449520"/>
            <a:ext cx="4121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30080" y="2057040"/>
            <a:ext cx="573732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DEFINE </a:t>
            </a: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 Black"/>
              </a:rPr>
              <a:t>UNICAMERAL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0" y="1828800"/>
            <a:ext cx="3824280" cy="38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02T18:11:27Z</dcterms:modified>
  <cp:revision>128</cp:revision>
  <dc:subject/>
  <dc:title>D/O: TO EXPLAIN AND IDENTIFY PROBLEMS OF ECONOMICS</dc:title>
</cp:coreProperties>
</file>